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2B7-8CCA-42BF-90B3-B76B26CC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67E-A2E4-48DB-B955-306F9044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4DF8-A4CC-4B4E-9A4B-8BF1F43F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6B7CC-83A9-422D-8C51-6D39E361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41CE1-373A-44B2-9597-F0E8266F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07988-9ACB-428A-B124-B0C9CE4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31371-F683-491C-9036-BE1383EF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38F80-8E21-4B35-9AB3-6EA2E95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02398-DFE0-400D-BF69-F9D2A062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19816-C070-458A-8B2E-1EEA0D90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C0A40-8E7D-4CD4-8731-8DF0BAB8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8EC95-997D-4249-8F2C-5C58CB1A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D53-8175-4F7A-B54C-63530EC4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A57A5-9803-4DAF-823D-421784A8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38522-EDBA-4446-81A2-A8AFFA47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202CC-DAA9-461D-BA38-5675C21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4427A-25AF-4EC8-94C2-11484B7B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10493-810C-4AD3-8675-4CB1231F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2FAA0-84E6-4B99-95AC-1D544C67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79230-8509-4EEF-B4B1-52C4E14F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B4F14-F9C1-4C45-BED7-4626097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E0367-307C-4DC0-99F8-CCE3F71F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B8C3F-8F52-4F9C-ACD0-AB881DF4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F96-48E7-4CF0-ADF3-5291DFD0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048BF-A3A6-4D35-8054-4CAE3425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8B3CC-0C1A-4266-8928-01BDD392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D7291-5D85-4435-A4EF-71536A5E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E5441-8E86-49F0-AF71-583A3E2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B04F9-4D9E-48E3-BDA2-50E3017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5EF39-F968-42D9-8FEC-6A19D958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DFF12-8D2B-44AF-944B-D7FFCFC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08B38-BC83-4EFA-809E-4EA5673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15A87-AA79-4F70-8F5D-4B6747F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7A9A3-5D50-48CB-9512-3F8451A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E788-F764-4B29-A76E-5E3E32AD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2AD16-9471-456E-8DA1-55AA15D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96653-D0D1-40FC-9FDB-7A4979C2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587D7-6D93-453C-844D-D0B1409A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0F885-DA10-4CE2-90B7-1F8414B9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B434C-B610-4C4F-9DBD-36524995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F54A3-AE87-499D-8501-E0F8A7BB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6A5CE-5250-4FAE-80E2-97A4A411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CB92D-9F0B-4B25-8852-1721E4B7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29E25-EC80-4F9C-BC70-451B67B0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AA842-42B6-4712-8A0F-9DBAB7F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439F-9FF9-4A09-8F9C-61003903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524F1-5225-4F08-B2F5-B6E21EB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001A1-21C6-43ED-B303-038CE81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8E950-D0E9-4476-8778-B66C8014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B4D7B-5E1B-4C11-9CF2-99DD9765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24371-F287-4D11-B6EC-41A174BA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073B7-6BE8-4354-BF1D-6F553979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9526E-18D2-4966-BF7E-A23D955E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E606A-2A4D-485C-9A38-E8C8E407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B6931-0872-40D9-B29D-3A4FD1E0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90D3F-8BF7-4CDD-B6A6-47DFE6F9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7D93-EA3A-4B94-8659-2A505A7B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B7002-0962-40E8-AEE1-79227BD2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B2EEE-7657-421C-89EF-9C80B25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4B696-5103-4CE4-916F-2E46CAD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C8DA9-FE89-44E2-AAE8-9E0F8669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E715F-B1D4-444C-BE94-A189304A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B8083-B4D3-485E-943D-DA5F6260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E753F-F81F-4A06-84D2-E8B4A674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5B59-B32A-48A7-A3DF-9201DFD8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383C-E577-4EC1-9190-3A989C4A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5168-6A04-43EB-984E-36DC549E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061F-7E76-48F3-AFF1-313E7021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B03-1594-4963-ACC6-28EE1DF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1CE-C6B2-4B37-B1AE-655CEBE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537A-AEBC-41E1-B273-29D5852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D313-D16A-42E6-B16C-BFE2D1C3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FD9B-D0C1-46AE-8EBF-88FE41B6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D846-677F-42E4-AD70-646AB2BD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5A35-E7A2-47A5-B0C7-94EA7CE1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16CD-CB13-4E8B-9473-4B6A8F53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6EA9-1879-4852-A273-B689B199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0193-C2CE-41D9-A356-51F2BB28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C224-6A70-48ED-B609-71B9F2C8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9FA-9EC8-4084-89B9-65EC4CE7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F8E4-8E41-4AF3-B3D7-E9843C55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D21E-C73D-4E97-B1BD-2F98A55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9C8B-60B3-4B63-B360-7D0E824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9FB6-6342-42B2-A05E-8E6DC0F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FE4B-6580-4825-B2C2-2373AE66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BFE7-4D8C-4060-9489-F8548BE7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E3BF-9707-445E-AC2A-5FC56522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78958-8A0A-4458-B379-3C6C23DC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DF9A-66E6-4A9A-9EA6-979E217F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F3C0-FAFA-4D29-880B-3D89CD6A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951-8A98-4D19-8C30-9DB1D4E4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AB89-4AD4-4034-8108-44688001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3CE7-6395-4D41-BA16-E4B8B902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47346-4B73-4CD8-99CD-F1AAD6F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97A7-58AF-47C8-BB41-5EAD442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181A-E020-4CDD-968B-62E3DB1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34C7-9EF2-43B0-B5C6-3B515A74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AED2-97C0-4527-84B3-F7AC37D5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68357-9B05-484A-96AC-FBCCCD1B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071A5-FF4F-4044-B07B-52AEA6A2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C0D1D-D766-4D46-86F3-533C94D7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DBC-8E2E-4336-B354-53DDDACD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7D48-2C38-4B7F-8BC5-29AE5409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8893-D293-4AAC-824F-3864304F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D4415-B220-49DD-8577-597FEA63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2AC70-BE37-47F0-B8B2-D4FE714B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93698-56A3-4C07-BE0A-ACF6A985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B5C95-A049-4E4B-BBCF-8EDEE4A7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8D032-F4E3-4694-8035-78898F23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7B50-2926-46FC-9A8F-764C0E2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74AA-27FB-49A2-A651-8EFFE564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3FF2-4476-4345-B56F-92982525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8BF-C58D-4A0E-8FB4-F15E596A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404E-85D4-46BF-91C7-FCA8FCE4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07F8F-AEB4-4B0B-B749-7815442B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986BE-C921-4CC7-8587-325F7032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D0577-A757-4A55-89EB-011CC9EA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63EF2-9C8C-43C2-BF5A-097BFE2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146F5-2A71-4FEF-B9BD-D6852E49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A8E47-B296-496C-838E-21DFD3E4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CB0A6-01F4-495B-A000-A0A40909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101ED-CD54-41B2-9AEE-83A5610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FE1AD-C93D-485F-8EE2-70139DE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528-F72E-4586-991F-7DC5E305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08D4-64D7-4563-9211-B3C6B358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BE5CE-8121-4533-9E49-8426492C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42B5-F98A-440D-BF75-68E1DD7D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D941-EF12-4375-A9CB-441B6F3B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478C8-577B-459F-9FA5-F8387F63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E803C-E5CE-4C8E-9164-3616886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1A45-909F-4492-AE6D-994A2833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258E1-AAD8-4738-9DE5-46D17B6E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02D3F-46D2-4E99-9658-405667C5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FDB1-E10F-429C-BE6C-3B0F97C3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678-8F93-4AE4-A5D7-E59CF03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5DD4A-220F-41CD-8301-3C2EB64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053FF-279A-48CA-B2A8-3D8BDF70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5B504-F85D-4E4A-99E6-F318D1E4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68D09-3597-4420-8F4C-51C9E63B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D76FF-8215-49A5-8BA5-4513E706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864DB-631C-4D8C-9D33-D46027EC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9E351-05D0-4843-879D-C1B3496E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DAD3E-03F1-4281-B020-9CBF9A66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EB585-74BC-48BE-AD21-B1A25809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844FD-E728-408E-9493-489DE3AB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4F7-578F-4089-9FF4-E141F87B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6F853-D9C3-4C7F-9D43-00DE950E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1AFB2-38F7-4199-ABC3-F78BB264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5BFE4-2F98-4E0C-8F39-660A833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6D27C-4A87-4A6F-8BDF-198DB75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4AC4A-321E-47DE-A2DB-9E5DBFFE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F84F5-062B-4C10-8506-ECD87C61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44DB7-48F7-41E1-956A-9AA6E4B7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45B7F-7F8F-4E6C-AF46-6604DAFC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AFB0F-FF16-4F89-9F86-A826D48C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BD529-96DD-41A1-8AFB-55B15674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CA5E-B918-4637-BC6F-349A2A753E1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38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39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6" name="Oval 40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7" name="Oval 41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8" name="Oval 42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9" name="Oval 43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0" name="Oval 44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1" name="Oval 45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2" name="Oval 46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3" name="Oval 47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4" name="Oval 48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5" name="Oval 49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6" name="Oval 50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7" name="Oval 51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8" name="Oval 52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7E3D-DFCA-4B3C-98B5-5D0EC6F2F1E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39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2" name="Oval 40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3" name="Oval 41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4" name="Oval 42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5" name="Oval 43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6" name="Oval 44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7" name="Oval 45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8" name="Oval 46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9" name="Oval 47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0" name="Oval 48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1" name="Oval 49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2" name="Oval 50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3" name="Oval 51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4" name="Oval 52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2F49-50AF-4972-9B60-2531443A244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39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8" name="Oval 40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9" name="Oval 41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0" name="Oval 42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1" name="Oval 43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2" name="Oval 44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3" name="Oval 45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4" name="Oval 46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5" name="Oval 47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6" name="Oval 48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7" name="Oval 49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8" name="Oval 50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9" name="Oval 51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0" name="Oval 52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CAC0-B5E8-4117-8A58-59B7D6A000E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56AA-25BB-440C-A33D-193F2BE95BF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8"/>
          <p:cNvGrpSpPr/>
          <p:nvPr/>
        </p:nvGrpSpPr>
        <p:grpSpPr>
          <a:xfrm>
            <a:off x="685800" y="0"/>
            <a:ext cx="8001000" cy="7950240"/>
            <a:chOff x="685800" y="0"/>
            <a:chExt cx="8001000" cy="7950240"/>
          </a:xfrm>
        </p:grpSpPr>
        <p:sp>
          <p:nvSpPr>
            <p:cNvPr id="74" name="Pie 39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>
                <a:gd name="textAreaLeft" fmla="*/ 317880 w 2171520"/>
                <a:gd name="textAreaRight" fmla="*/ 1853640 w 2171520"/>
                <a:gd name="textAreaTop" fmla="*/ 317880 h 2171520"/>
                <a:gd name="textAreaBottom" fmla="*/ 1853640 h 2171520"/>
              </a:gdLst>
              <a:ahLst/>
              <a:rect l="textAreaLeft" t="textAreaTop" r="textAreaRight" b="textAreaBottom"/>
              <a:pathLst>
                <a:path w="2171700" h="2171700">
                  <a:moveTo>
                    <a:pt x="2171700" y="1085850"/>
                  </a:moveTo>
                  <a:lnTo>
                    <a:pt x="2171700" y="1085850"/>
                  </a:lnTo>
                  <a:arcTo wR="1085850" hR="1085850" stAng="0" swAng="10800003"/>
                  <a:lnTo>
                    <a:pt x="1085850" y="1085850"/>
                  </a:lnTo>
                  <a:close/>
                </a:path>
              </a:pathLst>
            </a:cu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0"/>
              <a:ext cx="8001000" cy="6855840"/>
              <a:chOff x="685800" y="0"/>
              <a:chExt cx="8001000" cy="6855840"/>
            </a:xfrm>
          </p:grpSpPr>
          <p:sp>
            <p:nvSpPr>
              <p:cNvPr id="76" name="Freeform 41"/>
              <p:cNvSpPr/>
              <p:nvPr/>
            </p:nvSpPr>
            <p:spPr>
              <a:xfrm>
                <a:off x="685800" y="5880240"/>
                <a:ext cx="1143000" cy="97560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2590560" y="518184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Oval 43"/>
              <p:cNvSpPr/>
              <p:nvPr/>
            </p:nvSpPr>
            <p:spPr>
              <a:xfrm>
                <a:off x="838080" y="579132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Oval 44"/>
              <p:cNvSpPr/>
              <p:nvPr/>
            </p:nvSpPr>
            <p:spPr>
              <a:xfrm>
                <a:off x="2361960" y="59439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Oval 45"/>
              <p:cNvSpPr/>
              <p:nvPr/>
            </p:nvSpPr>
            <p:spPr>
              <a:xfrm>
                <a:off x="1676160" y="562644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Oval 46"/>
              <p:cNvSpPr/>
              <p:nvPr/>
            </p:nvSpPr>
            <p:spPr>
              <a:xfrm>
                <a:off x="1981080" y="533412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Oval 47"/>
              <p:cNvSpPr/>
              <p:nvPr/>
            </p:nvSpPr>
            <p:spPr>
              <a:xfrm>
                <a:off x="1942920" y="55627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Oval 48"/>
              <p:cNvSpPr/>
              <p:nvPr/>
            </p:nvSpPr>
            <p:spPr>
              <a:xfrm>
                <a:off x="2361960" y="502920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Oval 49"/>
              <p:cNvSpPr/>
              <p:nvPr/>
            </p:nvSpPr>
            <p:spPr>
              <a:xfrm>
                <a:off x="3009960" y="441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Oval 50"/>
              <p:cNvSpPr/>
              <p:nvPr/>
            </p:nvSpPr>
            <p:spPr>
              <a:xfrm>
                <a:off x="2971800" y="46483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Oval 51"/>
              <p:cNvSpPr/>
              <p:nvPr/>
            </p:nvSpPr>
            <p:spPr>
              <a:xfrm>
                <a:off x="3314520" y="472464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Oval 52"/>
              <p:cNvSpPr/>
              <p:nvPr/>
            </p:nvSpPr>
            <p:spPr>
              <a:xfrm>
                <a:off x="3619440" y="502920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Oval 53"/>
              <p:cNvSpPr/>
              <p:nvPr/>
            </p:nvSpPr>
            <p:spPr>
              <a:xfrm>
                <a:off x="1384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Oval 54"/>
              <p:cNvSpPr/>
              <p:nvPr/>
            </p:nvSpPr>
            <p:spPr>
              <a:xfrm>
                <a:off x="3505320" y="52581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Oval 55"/>
              <p:cNvSpPr/>
              <p:nvPr/>
            </p:nvSpPr>
            <p:spPr>
              <a:xfrm>
                <a:off x="1295280" y="566460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Oval 56"/>
              <p:cNvSpPr/>
              <p:nvPr/>
            </p:nvSpPr>
            <p:spPr>
              <a:xfrm>
                <a:off x="1447560" y="551196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Oval 57"/>
              <p:cNvSpPr/>
              <p:nvPr/>
            </p:nvSpPr>
            <p:spPr>
              <a:xfrm>
                <a:off x="1600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Oval 59"/>
              <p:cNvSpPr/>
              <p:nvPr/>
            </p:nvSpPr>
            <p:spPr>
              <a:xfrm>
                <a:off x="3352680" y="59439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60"/>
              <p:cNvSpPr/>
              <p:nvPr/>
            </p:nvSpPr>
            <p:spPr>
              <a:xfrm flipV="1">
                <a:off x="5486400" y="0"/>
                <a:ext cx="1143000" cy="97560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Oval 74"/>
              <p:cNvSpPr/>
              <p:nvPr/>
            </p:nvSpPr>
            <p:spPr>
              <a:xfrm flipV="1">
                <a:off x="7391520" y="759600"/>
                <a:ext cx="914400" cy="9144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Oval 75"/>
              <p:cNvSpPr/>
              <p:nvPr/>
            </p:nvSpPr>
            <p:spPr>
              <a:xfrm flipV="1">
                <a:off x="5638680" y="6073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Oval 77"/>
              <p:cNvSpPr/>
              <p:nvPr/>
            </p:nvSpPr>
            <p:spPr>
              <a:xfrm flipV="1">
                <a:off x="7162920" y="14976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Oval 78"/>
              <p:cNvSpPr/>
              <p:nvPr/>
            </p:nvSpPr>
            <p:spPr>
              <a:xfrm flipV="1">
                <a:off x="6477120" y="7722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Oval 92"/>
              <p:cNvSpPr/>
              <p:nvPr/>
            </p:nvSpPr>
            <p:spPr>
              <a:xfrm flipV="1">
                <a:off x="6782040" y="11653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0" name="Oval 93"/>
              <p:cNvSpPr/>
              <p:nvPr/>
            </p:nvSpPr>
            <p:spPr>
              <a:xfrm flipV="1">
                <a:off x="6743880" y="86040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Oval 98"/>
              <p:cNvSpPr/>
              <p:nvPr/>
            </p:nvSpPr>
            <p:spPr>
              <a:xfrm flipV="1">
                <a:off x="7162920" y="10645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Oval 99"/>
              <p:cNvSpPr/>
              <p:nvPr/>
            </p:nvSpPr>
            <p:spPr>
              <a:xfrm flipV="1">
                <a:off x="7810560" y="207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" name="Oval 100"/>
              <p:cNvSpPr/>
              <p:nvPr/>
            </p:nvSpPr>
            <p:spPr>
              <a:xfrm flipV="1">
                <a:off x="7772400" y="177480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Oval 101"/>
              <p:cNvSpPr/>
              <p:nvPr/>
            </p:nvSpPr>
            <p:spPr>
              <a:xfrm flipV="1">
                <a:off x="8115480" y="192816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Oval 102"/>
              <p:cNvSpPr/>
              <p:nvPr/>
            </p:nvSpPr>
            <p:spPr>
              <a:xfrm flipV="1">
                <a:off x="8420400" y="16232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Oval 103"/>
              <p:cNvSpPr/>
              <p:nvPr/>
            </p:nvSpPr>
            <p:spPr>
              <a:xfrm flipV="1">
                <a:off x="6184800" y="12423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Oval 104"/>
              <p:cNvSpPr/>
              <p:nvPr/>
            </p:nvSpPr>
            <p:spPr>
              <a:xfrm flipV="1">
                <a:off x="8305920" y="13946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8" name="Oval 105"/>
              <p:cNvSpPr/>
              <p:nvPr/>
            </p:nvSpPr>
            <p:spPr>
              <a:xfrm flipV="1">
                <a:off x="6096240" y="1064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Oval 106"/>
              <p:cNvSpPr/>
              <p:nvPr/>
            </p:nvSpPr>
            <p:spPr>
              <a:xfrm flipV="1">
                <a:off x="6248520" y="121680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Oval 107"/>
              <p:cNvSpPr/>
              <p:nvPr/>
            </p:nvSpPr>
            <p:spPr>
              <a:xfrm flipV="1">
                <a:off x="6400800" y="12423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Oval 108"/>
              <p:cNvSpPr/>
              <p:nvPr/>
            </p:nvSpPr>
            <p:spPr>
              <a:xfrm flipV="1">
                <a:off x="8153640" y="37800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Oval 109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Oval 110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Oval 111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A5FD-11B7-4DB0-9C6D-0AE335606C5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AEF2-2B0A-416A-9021-AAD768DC42E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8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39"/>
            <p:cNvSpPr/>
            <p:nvPr/>
          </p:nvSpPr>
          <p:spPr>
            <a:xfrm>
              <a:off x="624924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551268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Oval 41"/>
            <p:cNvSpPr/>
            <p:nvPr/>
          </p:nvSpPr>
          <p:spPr>
            <a:xfrm>
              <a:off x="6249240" y="4342320"/>
              <a:ext cx="85896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Oval 42"/>
            <p:cNvSpPr/>
            <p:nvPr/>
          </p:nvSpPr>
          <p:spPr>
            <a:xfrm>
              <a:off x="615708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Oval 43"/>
            <p:cNvSpPr/>
            <p:nvPr/>
          </p:nvSpPr>
          <p:spPr>
            <a:xfrm>
              <a:off x="5697000" y="2133720"/>
              <a:ext cx="1840680" cy="184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" name="Oval 44"/>
            <p:cNvSpPr/>
            <p:nvPr/>
          </p:nvSpPr>
          <p:spPr>
            <a:xfrm>
              <a:off x="7077600" y="58147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Oval 45"/>
            <p:cNvSpPr/>
            <p:nvPr/>
          </p:nvSpPr>
          <p:spPr>
            <a:xfrm>
              <a:off x="4807080" y="47102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7" name="Oval 46"/>
            <p:cNvSpPr/>
            <p:nvPr/>
          </p:nvSpPr>
          <p:spPr>
            <a:xfrm>
              <a:off x="4592520" y="513972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496044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Oval 48"/>
            <p:cNvSpPr/>
            <p:nvPr/>
          </p:nvSpPr>
          <p:spPr>
            <a:xfrm>
              <a:off x="5328720" y="47102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720"/>
            <a:ext cx="1179720" cy="1357200"/>
            <a:chOff x="609480" y="990720"/>
            <a:chExt cx="1179720" cy="1357200"/>
          </a:xfrm>
        </p:grpSpPr>
        <p:sp>
          <p:nvSpPr>
            <p:cNvPr id="241" name="Oval 50"/>
            <p:cNvSpPr/>
            <p:nvPr/>
          </p:nvSpPr>
          <p:spPr>
            <a:xfrm>
              <a:off x="898560" y="1456920"/>
              <a:ext cx="890640" cy="8910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 flipV="1">
              <a:off x="647280" y="1295640"/>
              <a:ext cx="355680" cy="355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Oval 52"/>
            <p:cNvSpPr/>
            <p:nvPr/>
          </p:nvSpPr>
          <p:spPr>
            <a:xfrm flipV="1">
              <a:off x="609480" y="990720"/>
              <a:ext cx="431640" cy="4320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F969-6ED9-4FD0-B602-F5056434E06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5B1A-C5AA-4F52-A04B-BA6C7035B42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21C7-AD26-44A9-9B8A-A0E9971C5D3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6B4D-444D-4746-943B-EFCF35C22DB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3210-2D06-4AB5-AE06-66D8C71D8BD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39"/>
            <p:cNvSpPr/>
            <p:nvPr/>
          </p:nvSpPr>
          <p:spPr>
            <a:xfrm>
              <a:off x="4695840" y="5048640"/>
              <a:ext cx="1104120" cy="11044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0" name="Oval 40"/>
            <p:cNvSpPr/>
            <p:nvPr/>
          </p:nvSpPr>
          <p:spPr>
            <a:xfrm>
              <a:off x="7065720" y="457236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1" name="Oval 41"/>
            <p:cNvSpPr/>
            <p:nvPr/>
          </p:nvSpPr>
          <p:spPr>
            <a:xfrm>
              <a:off x="5339880" y="4895280"/>
              <a:ext cx="1042920" cy="10432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Oval 42"/>
            <p:cNvSpPr/>
            <p:nvPr/>
          </p:nvSpPr>
          <p:spPr>
            <a:xfrm>
              <a:off x="6693840" y="3048120"/>
              <a:ext cx="1840680" cy="1841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3" name="Oval 43"/>
            <p:cNvSpPr/>
            <p:nvPr/>
          </p:nvSpPr>
          <p:spPr>
            <a:xfrm>
              <a:off x="791712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4" name="Oval 44"/>
            <p:cNvSpPr/>
            <p:nvPr/>
          </p:nvSpPr>
          <p:spPr>
            <a:xfrm>
              <a:off x="7824960" y="2685960"/>
              <a:ext cx="1042920" cy="10432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5" name="Oval 45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6" name="Oval 46"/>
            <p:cNvSpPr/>
            <p:nvPr/>
          </p:nvSpPr>
          <p:spPr>
            <a:xfrm>
              <a:off x="6552360" y="51210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7" name="Oval 47"/>
            <p:cNvSpPr/>
            <p:nvPr/>
          </p:nvSpPr>
          <p:spPr>
            <a:xfrm>
              <a:off x="6782040" y="55634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8" name="Oval 48"/>
            <p:cNvSpPr/>
            <p:nvPr/>
          </p:nvSpPr>
          <p:spPr>
            <a:xfrm>
              <a:off x="6705720" y="51822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9" name="Oval 49"/>
            <p:cNvSpPr/>
            <p:nvPr/>
          </p:nvSpPr>
          <p:spPr>
            <a:xfrm>
              <a:off x="7073640" y="51210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90" name="Oval 50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1" name="Oval 51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Oval 52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9495-5A0F-4CEC-8CCA-AEC922D27BF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Title 1" descr=""/>
          <p:cNvPicPr/>
          <p:nvPr/>
        </p:nvPicPr>
        <p:blipFill>
          <a:blip r:embed="rId1"/>
          <a:stretch/>
        </p:blipFill>
        <p:spPr>
          <a:xfrm>
            <a:off x="682560" y="1407960"/>
            <a:ext cx="7454880" cy="1517760"/>
          </a:xfrm>
          <a:prstGeom prst="rect">
            <a:avLst/>
          </a:prstGeom>
          <a:ln w="0">
            <a:noFill/>
          </a:ln>
        </p:spPr>
      </p:pic>
      <p:pic>
        <p:nvPicPr>
          <p:cNvPr id="876" name="Subtitle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3346560" y="2938320"/>
            <a:ext cx="4444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3" name="camstudio.wmv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714680" y="1727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8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ESS_Summer_Symposium.wmv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1371600" y="1143000"/>
            <a:ext cx="62784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429" fill="hold"/>
                                        <p:tgtEl>
                                          <p:spTgt spid="8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79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1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139760" y="1749600"/>
            <a:ext cx="70232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Title 1" descr=""/>
          <p:cNvPicPr/>
          <p:nvPr/>
        </p:nvPicPr>
        <p:blipFill>
          <a:blip r:embed="rId1"/>
          <a:stretch/>
        </p:blipFill>
        <p:spPr>
          <a:xfrm>
            <a:off x="1243080" y="480960"/>
            <a:ext cx="6840360" cy="1281240"/>
          </a:xfrm>
          <a:prstGeom prst="rect">
            <a:avLst/>
          </a:prstGeom>
          <a:ln w="0">
            <a:noFill/>
          </a:ln>
        </p:spPr>
      </p:pic>
      <p:pic>
        <p:nvPicPr>
          <p:cNvPr id="883" name="Zamzar.wmv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457200" y="2062080"/>
            <a:ext cx="80773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itle 1" descr=""/>
          <p:cNvPicPr/>
          <p:nvPr/>
        </p:nvPicPr>
        <p:blipFill>
          <a:blip r:embed="rId1"/>
          <a:stretch/>
        </p:blipFill>
        <p:spPr>
          <a:xfrm>
            <a:off x="1243080" y="480960"/>
            <a:ext cx="6840360" cy="1281240"/>
          </a:xfrm>
          <a:prstGeom prst="rect">
            <a:avLst/>
          </a:prstGeom>
          <a:ln w="0">
            <a:noFill/>
          </a:ln>
        </p:spPr>
      </p:pic>
      <p:pic>
        <p:nvPicPr>
          <p:cNvPr id="885" name="xtranormal.wmv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523880" y="1828800"/>
            <a:ext cx="73915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83269" fill="hold"/>
                                        <p:tgtEl>
                                          <p:spTgt spid="8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7450200" cy="1158840"/>
          </a:xfrm>
          <a:prstGeom prst="rect">
            <a:avLst/>
          </a:prstGeom>
          <a:ln w="0">
            <a:noFill/>
          </a:ln>
        </p:spPr>
      </p:pic>
      <p:pic>
        <p:nvPicPr>
          <p:cNvPr id="887" name="animoto_video.mp4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981080" y="19843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8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9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1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0:36:09Z</dcterms:created>
  <dc:creator>JulieA</dc:creator>
  <dc:description/>
  <dc:language>en-US</dc:language>
  <cp:lastModifiedBy>JulieA</cp:lastModifiedBy>
  <dcterms:modified xsi:type="dcterms:W3CDTF">2010-06-01T04:04:22Z</dcterms:modified>
  <cp:revision>44</cp:revision>
  <dc:subject/>
  <dc:title>Slide 1</dc:title>
</cp:coreProperties>
</file>